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985080" cy="9285120"/>
          </a:xfrm>
          <a:custGeom>
            <a:avLst/>
            <a:gdLst>
              <a:gd name="textAreaLeft" fmla="*/ 360 w 6985080"/>
              <a:gd name="textAreaRight" fmla="*/ 6984720 w 6985080"/>
              <a:gd name="textAreaTop" fmla="*/ 360 h 9285120"/>
              <a:gd name="textAreaBottom" fmla="*/ 9284760 h 9285120"/>
            </a:gdLst>
            <a:ahLst/>
            <a:rect l="textAreaLeft" t="textAreaTop" r="textAreaRight" b="textAreaBottom"/>
            <a:pathLst>
              <a:path w="21600" h="28712">
                <a:moveTo>
                  <a:pt x="4" y="0"/>
                </a:moveTo>
                <a:arcTo wR="4" hR="4" stAng="16200000" swAng="-5400000"/>
                <a:lnTo>
                  <a:pt x="0" y="28708"/>
                </a:lnTo>
                <a:arcTo wR="4" hR="4" stAng="10800000" swAng="-5400000"/>
                <a:lnTo>
                  <a:pt x="21596" y="2871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01464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head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957120" y="-1800"/>
            <a:ext cx="301500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81160" y="705960"/>
            <a:ext cx="4610160" cy="345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8400" cy="4164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8818200"/>
            <a:ext cx="301464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957120" y="8818200"/>
            <a:ext cx="301500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B3FFA-5B46-4BF2-98DF-2A8B967C52AA}" type="slidenum">
              <a: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81160" y="706320"/>
            <a:ext cx="4614840" cy="34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984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81160" y="706320"/>
            <a:ext cx="462276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984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81160" y="706320"/>
            <a:ext cx="461304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984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81160" y="706320"/>
            <a:ext cx="461304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984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81160" y="706320"/>
            <a:ext cx="461304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984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81160" y="706320"/>
            <a:ext cx="461304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984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81160" y="706320"/>
            <a:ext cx="461304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984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81160" y="706320"/>
            <a:ext cx="461304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984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BDD3-EFFD-4F2A-8456-E0D72FEFE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1516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4640" y="3818880"/>
            <a:ext cx="771516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F44B-F1E8-4259-91B7-17B9BB7E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4640" y="381888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88160" y="381888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7EF3-9D7C-4B4E-B8FD-09D6FB857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3200" y="167652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1760" y="167652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4640" y="381888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3200" y="381888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1760" y="381888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F71E-7C7C-436B-ADD2-7A69E2ECD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037E-6403-4AC8-BFA0-96690A8FF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1516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513F-17E1-43BC-AE8A-3BE1342F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1516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F830-9E9C-4024-9981-5F753BF2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DC93-7A18-45C9-9F45-219E29C6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0F86-A0BF-4155-A59C-6B184557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720" y="130320"/>
            <a:ext cx="77594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E076-7DB8-4467-B585-59A49EE8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4640" y="381888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0AE4-5280-4DD5-A1F3-2A63643F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1516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2A43-5CB6-4F62-B556-BF3DF4DB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88160" y="381888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25A4-EF65-47CE-9C5B-109971E5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4640" y="3818880"/>
            <a:ext cx="771516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366A-B62B-42ED-81DB-D3049111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1516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4640" y="3818880"/>
            <a:ext cx="771516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4FEB-C4AC-4AA3-A255-4CB576CF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4640" y="381888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88160" y="381888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7D5C-0BA2-4B2E-8CDD-CBAEB52CE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3200" y="167652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51760" y="167652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4640" y="381888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3200" y="381888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51760" y="381888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F29B-7DBB-4C8B-B80A-B1CF7F242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1516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7F72-1F61-4D91-B9B9-B3F8367E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7232-959B-4BCC-9AE1-60603F8D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1AC4-DA75-46BE-881C-4313374F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130320"/>
            <a:ext cx="77594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20D4-EA55-45BC-9847-E4A6A1FC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4640" y="381888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0778-7E59-49D0-89BB-1443D13E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88160" y="381888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FFE9-891B-49EE-9E87-7256A03D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4640" y="3818880"/>
            <a:ext cx="771516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AF64-8F34-4CEA-8600-9D5F3B76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7315200" y="5510160"/>
            <a:ext cx="1828800" cy="1347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1516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23280" indent="-323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15320" indent="-267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1996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56816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520" y="6171840"/>
            <a:ext cx="189252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8288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1840"/>
            <a:ext cx="189216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E292A-36F2-493A-9286-16EF1B16ED27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440" y="2967120"/>
            <a:ext cx="8026560" cy="144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1150560"/>
            <a:ext cx="775980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520" y="6248520"/>
            <a:ext cx="189252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288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89216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D70D4-0592-414E-B987-136ACA6ACC63}" type="slidenum">
              <a: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30080" indent="-2728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0" y="198360"/>
            <a:ext cx="6858000" cy="27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GMOD Meeting</a:t>
            </a:r>
            <a:br>
              <a:rPr sz="4400"/>
            </a:b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OICR</a:t>
            </a:r>
            <a:br>
              <a:rPr sz="4400"/>
            </a:b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July 16-17, 2008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7315200" cy="175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Scott Cai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GMOD Project Coordinator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Cold Spring Harbor Laboratory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2133720" cy="1573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77480"/>
            <a:ext cx="829620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Good stuff since the last meeting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184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26520" indent="-3265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mod 1.0!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6520" indent="-3265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 few Apollo release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6520" indent="-3265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map 1.0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6520" indent="-3265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MOD summer schoo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6520" indent="-3265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mmunity Annotation System 1.0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6520" indent="-3265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arameciumDB annotation jambore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6520" indent="-3265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rthropod Genomics meeting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177480"/>
            <a:ext cx="776268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What's in GMOD 1.0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35000" y="1676520"/>
            <a:ext cx="771840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aterialized views (thanks SGN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ntology updates (thanks again SGN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tock module (thanks ParameciumDB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mproved GFF loading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elete by GFF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177480"/>
            <a:ext cx="776268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What's on tap for GMOD 1.1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35000" y="1676520"/>
            <a:ext cx="771840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o schema changes (yet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inor Apollo compatibility stuff (although that problem's already been fixed by Ed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inor fix to GFF3 preprocessing tool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177480"/>
            <a:ext cx="776268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AS 1.1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35000" y="1676520"/>
            <a:ext cx="771840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r 1.1, a release of CAS-utils 0.1: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30080" indent="-27288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pollo-GBrowse CGI using a conf fi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30080" indent="-27288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 installer (MB?) to make it pret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y CAS-utils 0.1?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30080" indent="-27288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ummer school convinced me both of the need and feasibili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MODWeb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176040"/>
            <a:ext cx="77612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GMOD Summer School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35000" y="1676520"/>
            <a:ext cx="771696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July 11-13 at NESCent (North Carolina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5 students, 4 instructor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igh level of competence (students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vered: Chado theory and practice, GBrowse, Apollo, CMap, CA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enerally good review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360" y="177480"/>
            <a:ext cx="776268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What's up for this meeting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35000" y="1676520"/>
            <a:ext cx="771840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alk about core GMOD/CAS components: GBrowse, Apollo, MediaWiki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MOD help desk stuff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nterMin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mmon Gene Pages (again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131400"/>
            <a:ext cx="776268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Without further adieu..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